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6F9C-95DF-4927-9407-914D82EC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4CD4-0261-4EC2-989A-B3AB6DA4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4E416-DEC7-4C8F-9574-9FA3CA80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7381B-8690-4A23-A379-92B76FC5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D125A-2EF8-46B4-9457-EBF25206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22063-5559-49A6-8A65-C3477D48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44790-D0B3-4C6E-94E5-7EA4A8F9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6516B-AAE8-4BC8-BF78-2444C41E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4476D-E1E5-4912-911C-66D64625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D618F-82DF-419E-A03B-1FE43ED3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F253A-2497-4DD8-AB0E-7774C6EA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AC600-3AA2-4AF0-9DCD-89B9F82C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EF0-C66A-4865-A279-60ED2891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CFF3D-4085-4038-95D1-542AF801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19B26-8509-4871-B0F7-833DB20A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B635D-BF0C-4ABC-8B2C-DF0E2CE1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EB334-E2E2-44A0-A114-46F01884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36D4A-FE8D-463C-9634-4A43DABC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46DFE-AE4B-4F9B-871C-A7A9936A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00877-3AA5-4B8C-B2D5-0DDC13C2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8E14F-1203-4565-AE43-1888F1EA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4A821-4A3A-474C-926A-ED0AA7B7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92980-FFDA-41DF-95F6-C044C421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47A-D235-4C80-AC82-C344D9AE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53395-E48B-452C-96F8-75EBB6D9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AB378-21D4-417F-B03F-9C2A1532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AD901-A952-4A50-B3A2-59F7668C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1DDF5-E1F3-4EE2-B8B7-E68281C4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8B981-CCBE-449B-A1E4-BEEBB7AC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17437-447D-44A7-985F-42A6FC4F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EC428-7B9B-4ADE-9190-D8AE8ADC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C4AE0-7C6C-482B-BD6F-70A52F53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D1177-62F5-4CD7-8D0B-9AE5A780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FB99C-3707-4F41-AB9F-67C3DD90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1184-BD06-4243-A0B3-24DBB865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C5541-D4AC-44A3-B884-92952FE9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DBACE-153A-431D-96BE-51912104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2DD71-A571-452C-9A19-006A1B2A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ACC20-A969-491B-8110-C34FA35C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FE2F3-A4BF-4262-A81C-A4EB374A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3EFE8-800B-4FC7-A965-241A5292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775CC-D2DF-4FE1-84DF-B2D23F33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F2E95-7B53-4A7A-B5BC-46CFC2DE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2F11E-777C-42FC-9D34-90751BF7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A7D1F-6748-45BA-9C9F-30F331E3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AC02-BD92-450D-992A-7A8F632C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33A6B-3122-41AA-9B83-70C2A258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4C8E1-CE1E-4E13-9425-DF3ED794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A92C2-7138-4324-8777-33FEDC4D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28BA7-6161-40E1-BA2D-94241FA1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DBF68-3A92-4839-AE80-2A37DE8E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63BD6-5C56-4EBD-A280-41FA90ED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81A0D-C329-40F8-A3CC-B2CC8926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4B4A35-3C0F-4A1A-A14C-B6DAFC99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9BF0A-ED09-44E2-8847-0ED8B0F1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4AA22-9BE6-4C1F-9013-ECDE66F4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483C-35F4-4E1A-BB4C-8457E221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77FDA-1DA5-444F-BDE9-0A108287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E335B-3669-4D27-9AA4-76DC7ACF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950729-945D-4A4C-BA86-AE972342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71633-CB4D-4245-80E2-63B8F63B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9135E-58EB-4B1E-B317-9A4A764A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8FC059-545F-4EF1-9E9B-B42098DD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D9DA0-88A1-419B-BDE8-4430B6E9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6EF59B-8890-4C53-B44D-6C5FADAD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812880-B2F4-4B59-8C0E-AC929647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8791DA-61A1-484D-9263-3BD40AC9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6C6A-B4AA-4D0C-A46E-DF523A66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E209C-AF28-4595-80F2-62C0E687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57A6E6-09ED-4624-A664-23EF64EE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517769-86B3-423E-BF01-270A8B6B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F202B0-1BC3-45E0-ADFB-248422C8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C289EC-100D-4E73-B842-D4C1DA48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22C8FF-113E-4C92-A0CA-AB89AD8F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ECD689-F8D2-4D37-9BF8-B39F158A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C998FB-2FF7-4B9E-8E4A-63573F2C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68E9FE-9E19-4BA6-9C58-9EA441C6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562A39-B687-4D9A-8A54-E3AF5EEA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01AD-61A5-48B9-8677-9C228E47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7CE7A6-18CA-49B7-829A-70E7D6BC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8951C-72D0-4CAC-ACFB-AC4B8AD6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9FE348-9755-438C-9B7C-F5204997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084963-39E4-41F2-BB89-9E5A8205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2D3B2F-D79E-4460-9511-F6645F4D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C0DC81-C852-4D84-B913-ED2B01B1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523E9E-2FED-486E-8497-A19DFC99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32A7B3-06BA-4687-9926-B9F19342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83727-A831-4C98-BC8A-08ED3AB4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EBF591-073C-4204-ADD5-44C00CAA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F169-FD7B-4325-9F47-C711DD0B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85CD8-2869-4BFE-BC8A-23652B09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5E6637-7368-4488-B7C5-AB054303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D4CA5F-302A-49A4-9BF0-9C850067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AFBF68-1C69-48E1-9C8C-A121B555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DD64B9-C512-4A0F-8410-49501B16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D1C7BB-2D06-4C18-85F9-FC754C0A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923B9E-8AB8-493D-ABDD-3D6297C9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26EFDF-C4D6-4E9C-B261-5DAF26BA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499C4D-8398-499E-8363-26AE920C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04F2D0-0F55-426C-B0D7-3A6FCDDD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F686-E6A2-40C4-83F3-4A612656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19F943-24C7-4DCA-B3BC-35326CBD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CA58DD-6124-4E53-94DD-38BF20D0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9DCAF1-287F-480F-9440-55E2A138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B56695-D252-46EC-A431-DBCC4180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E2BDBE-DE2C-405A-B56C-83441993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C90B9D-4D98-4B74-A02B-73C20953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BEC4E4-ED20-4232-BCFC-07F93793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0837BA-4C6D-45EA-A498-B7056CF9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F54F3F-2AE3-4083-9047-ACEB7226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4749E4-9282-40C1-8368-21D72942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5AC-0745-4070-B48D-908FA0EB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7CE1-D357-4BEA-B44D-EC6F7542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ED8C24-EC7B-4B71-9849-794F595F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FF3796-C419-4E1C-823E-BB6B432C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981F95-A4B9-4F1E-8DE9-13C98B8E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B1C026-84ED-4EA3-A2D2-FCD36507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BE2BBB-F3A0-4860-98F0-D8B6CF6A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AED403-D5EE-41DF-BE54-1C44E993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30F1F1-B73C-4B26-9D04-B0758F34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8FA7DA-F44E-4275-AD8D-02E4CA46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F2920E-AE16-4836-9535-4DAC24A7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917EEC-F1D0-406A-B94C-C127F1E7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89B2-8657-4BF9-B178-68B3F698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3423A9-383F-4CE3-9E16-2F83E16F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16E2F6-50E5-47F2-AE18-BAF882CA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3E491A-A014-48E2-869E-D24AD962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89546A-CCBA-4339-9E1A-FE4BD95A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DFCD68-1A39-4685-8EAA-CD98C48F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65DA84-5487-4D7C-9BA0-B2E04103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E08E1F-3071-44EF-9C3E-15B7742C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508DDE-1718-4F08-A498-E4424AEA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4EC961-E784-460E-B423-66DAF05E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5E8782-468B-4794-8069-999021A2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322F-1B5C-4901-9A64-4075D005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6D77A5-40BF-43D7-A69A-099659BF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76BAE1-620B-40AE-8E50-DD8ECE03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0E9D76-A021-4062-99C5-5AF5FBC3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D7670E-2953-40E3-B231-5227DB56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B411BE-216B-4361-8F16-6112D219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ADCC5F-A593-4B72-9039-523389E8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C7800E-5FC9-438F-908A-0D6CCA89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62685C-1EA8-48EB-8B04-F1A36DC3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734299-E6C0-41E0-B4D0-DE789917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2B5BD7-2222-4FD3-8AD8-01E55202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1121-A054-483F-B331-20D88C8D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38AE92-CD5F-4D6A-BC9E-4D16F672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78C115-6786-4ECF-B27D-FC16B014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C2635E-D1BE-4B0E-AFDB-1173DDCF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608D15-DC5E-406B-801E-4B4527C0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E21AFE-3C92-4A61-B472-E2FCA109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E7AF2F-5987-48DF-BC22-4B3E9962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6F9E1B-2188-4AC1-B2D7-314738FC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0D5786-16A6-4C7F-BA83-F3734854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B3DE45-3E97-4302-8815-7FE3730B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47B7D1-E98B-4EE8-A005-D7029575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70A8-F46A-4328-B50E-592EB6B3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0773CA-6DC2-48A1-A5D2-A0D1E89A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57D9B9-E81F-4652-9402-1563212C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6502DC-8E63-4F47-83A4-0B7447EE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F0D6F7-0E43-4D26-9481-FA113D92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17465C-691B-4ACB-9430-D42A9385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D33664-0020-4E1A-B32E-E64D9C16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2AD689-05D3-4555-BD1C-8C924EAD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006BCE-F2AE-4DE2-8404-BF088D03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A090F8-6160-42BF-9A79-10156B26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BDD82F-3658-4ACD-9187-EEFC8D61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FE163-17F8-4029-A99F-FC749373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1E67EE-2C2D-49BB-9FE4-77229C8D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B6E5F2-7C7E-45EC-ABE6-27D214B7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8CCBCA-CF0F-49B3-91AB-C776225F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DDF461-5959-48FE-9239-D4AD16FF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302CEE-130D-4CFA-94AE-DF13431D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652551-2E8E-4B55-B831-FAA4FD76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F48EAF-717C-417A-9D94-F12F5400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1295AE-734F-4E5F-8C98-C06562F5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B546F4-F8A4-45D7-93C4-66D71439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C06E6A-6566-499A-A55C-0EDBF9FE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E0B8B-7972-4027-85B9-E0363A8B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9367E3-850C-47AD-B3EF-54DBBE12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226C0E-35A3-4889-92BE-145BF534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D65C6D-D162-4600-8CA7-4324C084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D5982E-5491-4C8F-BABE-0523AB2E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DED352-72F7-40F9-800F-2D639F0A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C7D4DB-0801-49B5-BCD3-38150ADF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30443C-1B7D-4423-96BB-3590D4DC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A34672-B5F2-42D9-98B3-D9F83AF4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A9C9FD-1041-48E9-AE9F-A410BC75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E1A126-9D55-46B8-9D17-D084CAAD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A923B-AE97-47AF-A0FD-E5C2502D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4223BD-B69A-48FC-B6E7-71B20851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306EB3-75BF-4645-B211-786B93C0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D33A8F-8658-4F3A-98C6-46A050E3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F833D9-F976-41BF-A85B-015EE391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A9EA3C-68AD-416B-AC9F-A5C91B85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B83969-13C1-4B40-B7AA-8428DDB4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42895E-6D08-4514-AB99-5D3B8CD2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9394B-F42F-4AF2-9E22-1E6A7EC4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9BF41-D999-4748-9FE6-A8868B20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A39-47FC-44EA-945F-56DAEC30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6DE57-889F-44A3-B6B8-A1771D5F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98D09-E076-4674-840F-5C36B7C2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D56BA-BF23-4839-8AD2-B327B90F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EC146-B342-448B-93B1-3F70BD0D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97EE9-6368-42C4-9BF9-D2CBC1ED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F3C6B-0B59-4A99-9C85-C9881E9F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3058A-1B9A-41FC-9806-E5A2F936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BA504-7311-4848-895A-61C6A9BD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DFC0F-23A2-4313-9957-5E521446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D7D9E-D45F-4CDC-B3F1-2DE8F627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D46-03F2-448B-BDDE-5BCF5026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CE155-4ADD-48FA-93EF-847BCD57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93173-1280-41EC-970B-CD42CC98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A1AA2-DCDB-42F6-8737-5DA269B6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BF96D-09DF-4D27-BC7A-2BF9B0BC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20B78-F23E-4DA8-85B5-80F68F84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D87C1-534B-4E32-BA69-965472AB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42423-0227-4FE5-85D7-3E276DE6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160B7-4CBD-43CA-86A2-23C06D27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81E41-E6F1-41D5-9CF4-9FAB008D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70CCE-C21D-4634-9B1E-36D55997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16A-D5F7-41D0-A5B1-298BF146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3DE0B-E2E8-4543-9FA7-52ED6104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19664-9434-4E8D-963C-78EC144D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F93CC-D401-460B-9EEE-1C3F3744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218DC-7249-4685-8B81-89C72B37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F232C-C9E7-49EE-A385-20635B85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012E4-83B5-4F50-91C0-F3F0AE4F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3C111-7FBA-43D8-A592-06C3FE04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BBD95-84AD-4372-8776-E54C3EB9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E1FA7-F9BE-4197-82B9-A68ABAE9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44385-A144-4774-88BC-90E49577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CD54-02F8-4A42-9247-8DF3AF3A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D5A74-A425-4A2A-B7DF-EA7B4BAE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0AD94-220D-494F-8CB7-1A577327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F07E3-C124-431D-B4FB-34B48A1C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D71FB-97D5-4F4C-9355-3ACB4514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42C3E-E61A-4496-B6D2-E57FB7C1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99626-7BFB-42A4-A40B-D31DC8E7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AD580-59A3-48C3-87D0-BFCA504A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0735D-57D0-430C-A9DA-9939F4FE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1090C-1448-496C-8367-EBB02A57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A0AFC-41F7-41B4-843F-C6690B5A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C1E-D80B-4FC4-981A-DAD792B5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29E8E-02B6-478E-9F84-20E2F510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B032E-F482-44E9-8F5F-5AF4FCB9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002C0-97B8-4144-8D3C-8E510B07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990F0-214D-4A08-8E3F-95BCBC07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27014-F9FA-4F5E-A7A8-FD8BAFDD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3C8D7-E090-426A-947C-85914A09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57B63-CB8F-49CB-BB27-84355AA2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22701-9B28-40CB-9D6A-978394B4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F3F7F-4AF9-451F-B7EC-B7D756DB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CD8C7-87F3-4645-90F7-73FA79DB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3971-9661-4F8F-8665-0DB4E5D1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861C3-6F0B-4BBC-8B9D-CBEFFBDE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5227F-D104-42FF-BDD7-E122DB40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75C72-AE63-4049-A4CC-D35808C7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F8343-9849-4D5C-BF11-B751A90F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FF89D-654C-4FE6-B689-05DBE4DE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A6C58-9A88-49A1-90E2-82A3A2BF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8E1FC-8534-4732-99E4-FFA76313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5F8E4-4283-4FED-9B41-56765B59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41DA5-144E-448A-AFC1-2BA3EAD4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C5921-2887-4B4F-8FF2-22CA6FB0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B20-00FF-4863-A7DD-9E59248C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E0CC3-5AA8-4B16-9E23-CF5F0D72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D1045-F085-4E44-ADED-1EB23D9A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504DD-1E5B-4A1B-A0C5-32C3B867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1059A-09E2-4CB1-93F8-D6694F6F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5F92C-9286-4828-A2CB-8980C7C8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BE682-3253-4A8A-BAC3-4A8D24CE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511B6-1E8A-4E35-B5A3-4037BCFC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3EDD5-9C56-4D2A-BCCF-D0694B8F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9D704-F996-41E7-A7F9-D65C5136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7DE15-836D-466A-9E6A-51076DB8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47D6-764B-4368-9195-6EDE4FF155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7F46-8E42-4177-A221-6FAA66AC5F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A3AE-3A4B-4198-97BB-F1732F2636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FF64-8F60-4BB4-B1B6-2CB120059E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8480-0A7C-4258-92BF-FAB274B968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08DC-8AC0-4B3F-A80E-0DAA1BAE27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07FC-3506-4BA7-BA28-94248F3527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96BB-0D39-4C76-839B-D67B2A109D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B827-6790-43BD-B283-514EC76C6B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1575-D2C4-4A65-AFCF-E93F839F8D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D4C1-80AC-4318-BC24-29521AA24B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00DA-3AC9-4963-B99F-90D7459685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8721-39F9-4C51-9F55-B8B30839E7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6C62-03ED-4DC4-AE3F-472CD97B9B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362B-350E-46C5-ADB4-9ED66FA586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5572-6EBE-4E66-B6EF-A62D2198A1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2835-0FCF-40CA-9AAB-3F1FF70500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9A6A-8E6E-4140-B9B1-43CD06196C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0031-7F9F-4C62-BDC3-26BEAAAC35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60A9-66E2-4E61-96B7-B3AA00CBBE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4CA7-E414-4574-A974-FECAD665CE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33CB-DD3B-484E-809D-46D34E074B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0243-5A5C-4EDF-8688-6278B333B1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B0F1-FD61-4F39-A978-C3470AE2EB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7856-53BB-4A88-A2E2-97931F24E5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0F50-8E11-4056-89C8-A700E37D59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0B8C-6EA3-48B4-BD6D-B9787997AA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A33C-47D9-4E82-A8DA-8DECC64D42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257F-4F92-49A4-A303-4D63D8E34B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9C4A-97ED-4951-B39C-678431F623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A8EE-F15D-4DEE-B4BB-C051379F54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6CB3-C2D0-42B8-BB11-0264E001E4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EFEE-9957-4853-ACF8-A9DEC3F8C7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1305-DCA3-45C2-AD48-66A227FA51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F417-BE26-49FD-8637-8A994A5016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34A1-E780-4A31-ACD1-1263F606A5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528C-6034-4164-8E07-D8A2543748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64CF-5012-44C1-BA87-3CDCE97A6B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4280-AF5E-424C-A4A0-5008B0BE74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BFDA-F37E-47CC-8D9B-E341ABDA93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B07E-D604-4DAE-8EE1-36374603A0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B252-ACA1-4591-917D-7429858F9E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71360" y="3005280"/>
            <a:ext cx="862812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图片 1" descr=""/>
          <p:cNvPicPr/>
          <p:nvPr/>
        </p:nvPicPr>
        <p:blipFill>
          <a:blip r:embed="rId1"/>
          <a:stretch/>
        </p:blipFill>
        <p:spPr>
          <a:xfrm>
            <a:off x="176040" y="1409760"/>
            <a:ext cx="8790120" cy="40384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" descr=""/>
          <p:cNvPicPr/>
          <p:nvPr/>
        </p:nvPicPr>
        <p:blipFill>
          <a:blip r:embed="rId2"/>
          <a:stretch/>
        </p:blipFill>
        <p:spPr>
          <a:xfrm>
            <a:off x="1763640" y="139860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3"/>
          <a:stretch/>
        </p:blipFill>
        <p:spPr>
          <a:xfrm>
            <a:off x="5867280" y="1427040"/>
            <a:ext cx="1368720" cy="40644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" descr=""/>
          <p:cNvPicPr/>
          <p:nvPr/>
        </p:nvPicPr>
        <p:blipFill>
          <a:blip r:embed="rId4"/>
          <a:stretch/>
        </p:blipFill>
        <p:spPr>
          <a:xfrm>
            <a:off x="1187280" y="1916280"/>
            <a:ext cx="1656000" cy="40608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5"/>
          <a:stretch/>
        </p:blipFill>
        <p:spPr>
          <a:xfrm>
            <a:off x="1116000" y="3371760"/>
            <a:ext cx="2519280" cy="40644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1" descr=""/>
          <p:cNvPicPr/>
          <p:nvPr/>
        </p:nvPicPr>
        <p:blipFill>
          <a:blip r:embed="rId6"/>
          <a:stretch/>
        </p:blipFill>
        <p:spPr>
          <a:xfrm>
            <a:off x="7308720" y="3386160"/>
            <a:ext cx="1584360" cy="40644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1" descr=""/>
          <p:cNvPicPr/>
          <p:nvPr/>
        </p:nvPicPr>
        <p:blipFill>
          <a:blip r:embed="rId7"/>
          <a:stretch/>
        </p:blipFill>
        <p:spPr>
          <a:xfrm>
            <a:off x="193680" y="3875040"/>
            <a:ext cx="936720" cy="40644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1" descr=""/>
          <p:cNvPicPr/>
          <p:nvPr/>
        </p:nvPicPr>
        <p:blipFill>
          <a:blip r:embed="rId8"/>
          <a:stretch/>
        </p:blipFill>
        <p:spPr>
          <a:xfrm>
            <a:off x="5580000" y="3876840"/>
            <a:ext cx="3168720" cy="40608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1" descr=""/>
          <p:cNvPicPr/>
          <p:nvPr/>
        </p:nvPicPr>
        <p:blipFill>
          <a:blip r:embed="rId9"/>
          <a:stretch/>
        </p:blipFill>
        <p:spPr>
          <a:xfrm>
            <a:off x="3780000" y="4379760"/>
            <a:ext cx="374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09520" y="822240"/>
            <a:ext cx="8724960" cy="535320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539640" y="139860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611280" y="381780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223920" y="692280"/>
            <a:ext cx="8694720" cy="58179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3"/>
          <a:stretch/>
        </p:blipFill>
        <p:spPr>
          <a:xfrm>
            <a:off x="539640" y="2637000"/>
            <a:ext cx="503280" cy="40608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4"/>
          <a:stretch/>
        </p:blipFill>
        <p:spPr>
          <a:xfrm>
            <a:off x="539640" y="459576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228600" y="1442880"/>
            <a:ext cx="8686800" cy="39722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3059280" y="1960560"/>
            <a:ext cx="1584000" cy="4064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3059280" y="2952720"/>
            <a:ext cx="1584000" cy="4064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4356000" y="3443400"/>
            <a:ext cx="1008000" cy="4064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3492360" y="3933720"/>
            <a:ext cx="1511280" cy="4064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6588000" y="4897440"/>
            <a:ext cx="100836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190440" y="479520"/>
            <a:ext cx="8763120" cy="63230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1835280" y="1441440"/>
            <a:ext cx="1008000" cy="40644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3"/>
          <a:stretch/>
        </p:blipFill>
        <p:spPr>
          <a:xfrm>
            <a:off x="4788000" y="1427040"/>
            <a:ext cx="1296720" cy="4064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4"/>
          <a:stretch/>
        </p:blipFill>
        <p:spPr>
          <a:xfrm>
            <a:off x="7093080" y="1441440"/>
            <a:ext cx="1150920" cy="4064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5"/>
          <a:stretch/>
        </p:blipFill>
        <p:spPr>
          <a:xfrm>
            <a:off x="1835280" y="2421000"/>
            <a:ext cx="3241440" cy="4064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6"/>
          <a:stretch/>
        </p:blipFill>
        <p:spPr>
          <a:xfrm>
            <a:off x="1476360" y="3889440"/>
            <a:ext cx="1655640" cy="4064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7"/>
          <a:stretch/>
        </p:blipFill>
        <p:spPr>
          <a:xfrm>
            <a:off x="5435640" y="3905280"/>
            <a:ext cx="792000" cy="40644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8"/>
          <a:stretch/>
        </p:blipFill>
        <p:spPr>
          <a:xfrm>
            <a:off x="4284720" y="4867200"/>
            <a:ext cx="2879640" cy="4064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9"/>
          <a:stretch/>
        </p:blipFill>
        <p:spPr>
          <a:xfrm>
            <a:off x="5651640" y="5862600"/>
            <a:ext cx="28796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1"/>
          <a:stretch/>
        </p:blipFill>
        <p:spPr>
          <a:xfrm>
            <a:off x="98280" y="882720"/>
            <a:ext cx="8790120" cy="2409840"/>
          </a:xfrm>
          <a:prstGeom prst="rect">
            <a:avLst/>
          </a:prstGeom>
          <a:ln w="0">
            <a:noFill/>
          </a:ln>
        </p:spPr>
      </p:pic>
      <p:pic>
        <p:nvPicPr>
          <p:cNvPr id="1130" name="图片 2" descr=""/>
          <p:cNvPicPr/>
          <p:nvPr/>
        </p:nvPicPr>
        <p:blipFill>
          <a:blip r:embed="rId2"/>
          <a:stretch/>
        </p:blipFill>
        <p:spPr>
          <a:xfrm>
            <a:off x="98280" y="3338640"/>
            <a:ext cx="87426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190440" y="371520"/>
            <a:ext cx="87631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图片 1" descr=""/>
          <p:cNvPicPr/>
          <p:nvPr/>
        </p:nvPicPr>
        <p:blipFill>
          <a:blip r:embed="rId1"/>
          <a:stretch/>
        </p:blipFill>
        <p:spPr>
          <a:xfrm>
            <a:off x="190440" y="723960"/>
            <a:ext cx="8763120" cy="54100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2"/>
          <a:stretch/>
        </p:blipFill>
        <p:spPr>
          <a:xfrm>
            <a:off x="684360" y="1225440"/>
            <a:ext cx="5616360" cy="4064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3"/>
          <a:stretch/>
        </p:blipFill>
        <p:spPr>
          <a:xfrm>
            <a:off x="755640" y="2205000"/>
            <a:ext cx="5616720" cy="4064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4"/>
          <a:stretch/>
        </p:blipFill>
        <p:spPr>
          <a:xfrm>
            <a:off x="755640" y="3701880"/>
            <a:ext cx="5616720" cy="4064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5"/>
          <a:stretch/>
        </p:blipFill>
        <p:spPr>
          <a:xfrm>
            <a:off x="755640" y="4667400"/>
            <a:ext cx="5616720" cy="40608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6"/>
          <a:stretch/>
        </p:blipFill>
        <p:spPr>
          <a:xfrm>
            <a:off x="684360" y="5632560"/>
            <a:ext cx="561636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图片 2" descr=""/>
          <p:cNvPicPr/>
          <p:nvPr/>
        </p:nvPicPr>
        <p:blipFill>
          <a:blip r:embed="rId1"/>
          <a:stretch/>
        </p:blipFill>
        <p:spPr>
          <a:xfrm>
            <a:off x="181080" y="781200"/>
            <a:ext cx="8781840" cy="5295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2"/>
          <a:stretch/>
        </p:blipFill>
        <p:spPr>
          <a:xfrm>
            <a:off x="3492360" y="2233440"/>
            <a:ext cx="1871640" cy="4064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3"/>
          <a:stretch/>
        </p:blipFill>
        <p:spPr>
          <a:xfrm>
            <a:off x="7812000" y="2233440"/>
            <a:ext cx="1008000" cy="40644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4"/>
          <a:stretch/>
        </p:blipFill>
        <p:spPr>
          <a:xfrm>
            <a:off x="250920" y="2722680"/>
            <a:ext cx="1008000" cy="40644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5"/>
          <a:stretch/>
        </p:blipFill>
        <p:spPr>
          <a:xfrm>
            <a:off x="4067280" y="322740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6"/>
          <a:stretch/>
        </p:blipFill>
        <p:spPr>
          <a:xfrm>
            <a:off x="7380360" y="322740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7"/>
          <a:stretch/>
        </p:blipFill>
        <p:spPr>
          <a:xfrm>
            <a:off x="2771640" y="3701880"/>
            <a:ext cx="1368720" cy="40644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8"/>
          <a:stretch/>
        </p:blipFill>
        <p:spPr>
          <a:xfrm>
            <a:off x="1042920" y="422100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9"/>
          <a:stretch/>
        </p:blipFill>
        <p:spPr>
          <a:xfrm>
            <a:off x="4643280" y="4206960"/>
            <a:ext cx="1368720" cy="40644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10"/>
          <a:stretch/>
        </p:blipFill>
        <p:spPr>
          <a:xfrm>
            <a:off x="2556000" y="4695840"/>
            <a:ext cx="3311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41:2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